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CCF-0C9D-49E6-8E43-9457B21C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178-009C-4E14-A761-1FC7AD3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01A-C123-4B1F-85D0-E4AF7CB8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091-FBC0-47FB-B531-33004881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F1C-4A75-4B8F-8EB1-26DD4F7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8DF-8FDD-420F-BA4D-64A2B514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8C0-1748-44A2-878D-88467DAF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788-4708-4508-A693-29EFA97A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A2C-5371-4923-9E5F-278A899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E25-EA67-48B8-BFC1-7FFC95C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BEC-D80B-4B23-B3BC-E89422F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27D-B014-49FB-ABC6-1B01BD1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94CD372-38B2-431B-9301-E8AB8046D60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3880" y="141120"/>
            <a:ext cx="9185400" cy="6233760"/>
            <a:chOff x="353880" y="141120"/>
            <a:chExt cx="9185400" cy="6233760"/>
          </a:xfrm>
        </p:grpSpPr>
        <p:sp>
          <p:nvSpPr>
            <p:cNvPr id="42" name=""/>
            <p:cNvSpPr/>
            <p:nvPr/>
          </p:nvSpPr>
          <p:spPr>
            <a:xfrm>
              <a:off x="2510280" y="269064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29080" y="2903040"/>
              <a:ext cx="19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0280" y="311580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1028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139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2542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54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5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6200000">
              <a:off x="2685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76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7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54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6200000">
              <a:off x="261072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67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67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72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61396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542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5754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75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85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7176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717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54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261072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467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6467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467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20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20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6720" y="387108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9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6200000">
              <a:off x="2797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0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16200000">
              <a:off x="294012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32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32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286632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01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1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191160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869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2797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30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30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94012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9732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732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3068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286632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901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01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01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544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544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1960" y="387108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244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6200000">
              <a:off x="3341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39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39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34833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64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64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7392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6200000">
              <a:off x="340956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52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52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5200" y="19026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341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3739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7392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833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164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1648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80840" y="3326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51648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920" y="35848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7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056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91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200000">
              <a:off x="3198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1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1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91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312444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0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08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2732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056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891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891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31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31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12444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0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600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0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39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9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08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27320" y="41767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3920" y="439776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0080" y="4344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2960" y="394488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640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640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7680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76800" y="4139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7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37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3448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34480" y="4139280"/>
              <a:ext cx="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0000">
              <a:off x="3661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4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4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6200000">
              <a:off x="3804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36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36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946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37299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5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596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33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1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94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94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3804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36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36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46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72996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5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65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65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944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96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33200" y="41738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9440" y="439488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65960" y="43412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8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19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19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82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82320" y="4139640"/>
              <a:ext cx="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133440" y="4377240"/>
            <a:ext cx="82800" cy="14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3440" y="437724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738960" y="4374000"/>
            <a:ext cx="82800" cy="141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8960" y="437400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12488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4053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63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6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6200000">
              <a:off x="4196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8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63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412200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7640" y="1911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248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4053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863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86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4196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28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28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63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12200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15764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15764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5764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1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011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7640" y="38710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24880" y="40158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1120" y="42368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57640" y="41835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052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3960" y="399816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3960" y="403632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7436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4360" y="413928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4760" y="3726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3560" y="378864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 rot="5400000">
              <a:off x="4393440" y="370368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80920" y="355824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85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6200000">
              <a:off x="4377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96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09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16200000">
              <a:off x="45194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2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964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4452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09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09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0920" y="15573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77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096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09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45194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52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552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64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99960" y="269064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979880" y="2903040"/>
              <a:ext cx="20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99960" y="311580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840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49467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9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5089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4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2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50151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08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08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5080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9467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798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79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089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224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122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798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155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0482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482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80920" y="328644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828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5246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9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9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6200000">
              <a:off x="538920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232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2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940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6200000">
              <a:off x="53150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06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06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0680" y="197352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1828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246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79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79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38920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2232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2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40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3150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3506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506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506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45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0680" y="3871080"/>
              <a:ext cx="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4156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6200000">
              <a:off x="557028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3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03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 rot="16200000">
              <a:off x="57128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56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34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16200000">
              <a:off x="56386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43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43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160" y="1840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64156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557028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03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603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7128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456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56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340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563868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743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743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6743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816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816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432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641560" y="41536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8160" y="4375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74320" y="43221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720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064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4064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9104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91040" y="4139280"/>
              <a:ext cx="0" cy="8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53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6200000">
              <a:off x="5882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48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148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6024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57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7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48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59500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6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6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9680" y="16992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5882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148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91480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24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7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05736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021720" y="3326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5736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4800" y="358488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0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6200000">
              <a:off x="62085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13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1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6200000">
              <a:off x="6351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83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3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132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6200000">
              <a:off x="627660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26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6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0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62085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413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41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6351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83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83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132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627660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26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1260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1260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5608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608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260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80200" y="414936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6080" y="43714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2600" y="431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5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856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856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29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29320" y="413964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7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6200000">
              <a:off x="65174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9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9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659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924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9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16200000">
              <a:off x="65858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14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14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887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5174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49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549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6659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924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692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9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65858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6214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214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14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496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496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1480" y="3871080"/>
              <a:ext cx="0" cy="9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760" y="5203440"/>
              <a:ext cx="156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760" y="5486760"/>
              <a:ext cx="78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3240" y="4937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8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440" y="575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8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94824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78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674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392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56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98080" y="575388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98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7160" y="57538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94716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1331280" y="540072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468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1720" y="575388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5217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956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320" y="575388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323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824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0640" y="575388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880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9332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26080" y="57538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26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2252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172296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2252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42120" y="5109120"/>
              <a:ext cx="5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864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447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12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47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775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75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42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375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752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244240" y="5841000"/>
              <a:ext cx="26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93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68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110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110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678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13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3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20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19336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216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44920" y="48862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4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71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49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000" y="4673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00" y="4183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6320" y="4288680"/>
              <a:ext cx="44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18560" y="3925800"/>
              <a:ext cx="66960" cy="250200"/>
              <a:chOff x="718560" y="3925800"/>
              <a:chExt cx="66960" cy="25020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718560" y="4008960"/>
                <a:ext cx="6696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5640" y="39258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240" y="3784320"/>
              <a:ext cx="10080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240" y="382248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560" y="35272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56000" y="369396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56000" y="33278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680" y="343440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680" y="332388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979560" y="3146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97280" y="32263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7320" y="322956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7320" y="323388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7680" y="323388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7200" y="318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2640" y="301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" y="28767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640" y="27082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7200" y="25664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680" y="25696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2680" y="24634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834480" y="2281320"/>
              <a:ext cx="6624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1840" y="23616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880" y="236448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880" y="23691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236916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7800" y="27082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881640" y="2463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098360" y="2463480"/>
              <a:ext cx="66960" cy="411120"/>
              <a:chOff x="1098360" y="2463480"/>
              <a:chExt cx="66960" cy="411120"/>
            </a:xfrm>
          </p:grpSpPr>
          <p:sp>
            <p:nvSpPr>
              <p:cNvPr id="520" name=""/>
              <p:cNvSpPr/>
              <p:nvPr/>
            </p:nvSpPr>
            <p:spPr>
              <a:xfrm>
                <a:off x="1098360" y="270828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132200" y="246348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V="1">
              <a:off x="1417680" y="20710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1880" y="223920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1880" y="636840"/>
              <a:ext cx="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147680" y="1480680"/>
              <a:ext cx="142200" cy="1085760"/>
              <a:chOff x="1147680" y="1480680"/>
              <a:chExt cx="142200" cy="10857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1203840" y="207072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7680" y="2239200"/>
                <a:ext cx="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6240" y="198216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89080" y="1843560"/>
                <a:ext cx="100800" cy="100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1147680" y="18410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86" y="290"/>
                    </a:moveTo>
                    <a:arcTo wR="10800" hR="10800" stAng="-4601561" swAng="46015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86" y="290"/>
                    </a:moveTo>
                    <a:arcTo wR="10800" hR="10800" stAng="-4601561" swAng="460156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203840" y="156924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236240" y="148068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6240" y="1746360"/>
                <a:ext cx="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33960" y="148680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960" y="137736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6200000">
              <a:off x="813240" y="14961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0960" y="15840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1000" y="1581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1000" y="137700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81360" y="148176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81360" y="127440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948600" y="10990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82800" y="545040"/>
              <a:ext cx="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512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12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600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0600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16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16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600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600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986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986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1948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948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551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551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1948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94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038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38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432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432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96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996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432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432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5400" y="99072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5400" y="105264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2628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2628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19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19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628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62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368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368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456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9456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298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298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456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456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64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564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616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616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3180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3180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616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616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5826960" y="869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3240" y="9554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6840" y="9554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0800000">
              <a:off x="563796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7288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10800000">
              <a:off x="598968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2460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7288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316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13840" y="142452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840" y="1486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3760" y="142452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63760" y="1486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8360" y="215064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8360" y="204156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8271720" y="1911600"/>
              <a:ext cx="270000" cy="235800"/>
              <a:chOff x="8271720" y="1911600"/>
              <a:chExt cx="270000" cy="235800"/>
            </a:xfrm>
          </p:grpSpPr>
          <p:sp>
            <p:nvSpPr>
              <p:cNvPr id="608" name=""/>
              <p:cNvSpPr/>
              <p:nvPr/>
            </p:nvSpPr>
            <p:spPr>
              <a:xfrm flipH="1" rot="16200000">
                <a:off x="8372880" y="186084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272080" y="194076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491320" y="19436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41720" y="194832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71720" y="194832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29280" y="193824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96520" y="17640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9280" y="636840"/>
              <a:ext cx="0" cy="11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95996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7200" y="22791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959960" y="244872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11440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81640" y="22791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114400" y="244872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699040" y="16783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33240" y="184680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1800" y="1589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4280" y="1451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43240" y="1449000"/>
              <a:ext cx="1414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86" y="290"/>
                  </a:moveTo>
                  <a:arcTo wR="10800" hR="10800" stAng="-4601561" swAng="460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86" y="290"/>
                  </a:moveTo>
                  <a:arcTo wR="10800" hR="10800" stAng="-4601561" swAng="46015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699040" y="11768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31800" y="10882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31800" y="135396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0440" y="10882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99040" y="7959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731800" y="54468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31800" y="9730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3240" y="311580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240" y="300672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986600" y="2876760"/>
              <a:ext cx="269640" cy="235800"/>
              <a:chOff x="7986600" y="2876760"/>
              <a:chExt cx="269640" cy="235800"/>
            </a:xfrm>
          </p:grpSpPr>
          <p:sp>
            <p:nvSpPr>
              <p:cNvPr id="637" name=""/>
              <p:cNvSpPr/>
              <p:nvPr/>
            </p:nvSpPr>
            <p:spPr>
              <a:xfrm flipH="1" rot="16200000">
                <a:off x="8087760" y="282600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986960" y="290592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8205840" y="290880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56240" y="291348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86600" y="291348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V="1">
              <a:off x="7773120" y="3001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036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73120" y="3409200"/>
              <a:ext cx="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577280" y="311544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452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577280" y="3409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6200000">
              <a:off x="828324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9952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312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42840" y="38368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1008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4284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032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47044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032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6200000">
              <a:off x="892440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4068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8428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40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75124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7840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360" y="38419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911160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914436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8812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248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594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5940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767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10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96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366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711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711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68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2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72200" y="5486760"/>
              <a:ext cx="66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45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9808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03880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073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052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4394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67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1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128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2684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8632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8981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812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901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904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04932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91749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9209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095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932544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93596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5964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880" y="474444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49672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53128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3128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865360" y="52138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89956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89956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9520" y="511344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79120" y="287676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240" y="287676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78400" y="2991960"/>
              <a:ext cx="9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5000" y="2124360"/>
              <a:ext cx="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45000" y="2122560"/>
              <a:ext cx="79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32200" y="2947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74080" y="19116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74080" y="1911600"/>
              <a:ext cx="11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0080" y="1769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192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5840" y="18982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2240" y="144216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8400" y="144216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9840" y="1697400"/>
              <a:ext cx="357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57080" y="14421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56360" y="1837800"/>
              <a:ext cx="28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6760" y="15501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7480" y="14421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2000" y="1768320"/>
              <a:ext cx="28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2696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4320" y="16063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7040" y="1606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016680" y="164160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1040" y="16416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31040" y="2549160"/>
              <a:ext cx="6336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5600" y="2687760"/>
              <a:ext cx="9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196452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35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019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35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0682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82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3328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96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65680" y="574488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0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16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01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1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269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04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0408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11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776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11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6439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3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08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41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416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43872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36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743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777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77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8451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88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800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684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2123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0788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23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451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451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42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428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69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3444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3786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78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44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8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8092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781880" y="512388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6486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224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81500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1500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800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712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071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1400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94856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4856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016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0508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5080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47812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629680" y="481500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29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2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535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80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8258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6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533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987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75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077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112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08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03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384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8440" y="5744880"/>
              <a:ext cx="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6196680" y="5115240"/>
              <a:ext cx="66600" cy="361080"/>
              <a:chOff x="6196680" y="5115240"/>
              <a:chExt cx="66600" cy="361080"/>
            </a:xfrm>
          </p:grpSpPr>
          <p:sp>
            <p:nvSpPr>
              <p:cNvPr id="817" name=""/>
              <p:cNvSpPr/>
              <p:nvPr/>
            </p:nvSpPr>
            <p:spPr>
              <a:xfrm flipH="1" flipV="1">
                <a:off x="6196320" y="5211360"/>
                <a:ext cx="6660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308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2308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47604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4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546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46960" y="574488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6405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674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57448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79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99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914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92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56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517440" y="5115240"/>
              <a:ext cx="66960" cy="361080"/>
              <a:chOff x="6517440" y="5115240"/>
              <a:chExt cx="66960" cy="361080"/>
            </a:xfrm>
          </p:grpSpPr>
          <p:sp>
            <p:nvSpPr>
              <p:cNvPr id="834" name=""/>
              <p:cNvSpPr/>
              <p:nvPr/>
            </p:nvSpPr>
            <p:spPr>
              <a:xfrm flipH="1" flipV="1">
                <a:off x="6517440" y="521136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512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5512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119640" y="5116680"/>
              <a:ext cx="54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7480" y="540720"/>
              <a:ext cx="77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2600" y="636840"/>
              <a:ext cx="63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360" y="1970640"/>
              <a:ext cx="18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9209160" y="587772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39280" y="4178160"/>
              <a:ext cx="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782200" y="4178160"/>
              <a:ext cx="7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69360" y="5947200"/>
              <a:ext cx="14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336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684280" y="61124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87184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184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719920" y="63738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4940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19960" y="61124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548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548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354520" y="637380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8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84000" y="587484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87240" y="4178160"/>
              <a:ext cx="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417672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7652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1840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727040" y="5806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13840" y="587916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276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5684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42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052600" y="5950080"/>
              <a:ext cx="18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317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10280" y="58777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45920" y="4107240"/>
              <a:ext cx="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51320" y="4102560"/>
              <a:ext cx="10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4240" y="594720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290320" y="58424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46276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60960" y="5942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377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799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95080" y="601956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779560" y="60195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946800" y="608904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474720" y="58424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61260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2240" y="5948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880640" y="61596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04120" y="584208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94704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48120" y="6018120"/>
              <a:ext cx="52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7" name=""/>
            <p:cNvGraphicFramePr/>
            <p:nvPr/>
          </p:nvGraphicFramePr>
          <p:xfrm>
            <a:off x="5643360" y="4354920"/>
            <a:ext cx="82800" cy="141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360" y="435492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9" name=""/>
            <p:cNvGraphicFramePr/>
            <p:nvPr/>
          </p:nvGraphicFramePr>
          <p:xfrm>
            <a:off x="6288840" y="4350600"/>
            <a:ext cx="82800" cy="1414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88840" y="4350600"/>
                      <a:ext cx="82800" cy="1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1" name=""/>
            <p:cNvSpPr/>
            <p:nvPr/>
          </p:nvSpPr>
          <p:spPr>
            <a:xfrm flipH="1">
              <a:off x="1734120" y="6231960"/>
              <a:ext cx="40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3600" y="481536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63600" y="4816800"/>
              <a:ext cx="85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3480" y="6363360"/>
              <a:ext cx="50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027520" y="6298560"/>
              <a:ext cx="45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3680" y="37886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623480" y="3791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23480" y="4602960"/>
              <a:ext cx="31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11280" y="467388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4840" y="4673880"/>
              <a:ext cx="58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6720" y="4744440"/>
              <a:ext cx="48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71880" y="6010560"/>
              <a:ext cx="44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7200" y="4249080"/>
              <a:ext cx="0" cy="17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119360" y="42458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32680" y="4815360"/>
              <a:ext cx="20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6800" y="48862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82320" y="4956840"/>
              <a:ext cx="89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1960" y="4956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6320" y="460296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6320" y="4602960"/>
              <a:ext cx="12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1720" y="50277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16400" y="5027760"/>
              <a:ext cx="15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01880" y="4532040"/>
              <a:ext cx="28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01880" y="4532040"/>
              <a:ext cx="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9600" y="43196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8480" y="4319640"/>
              <a:ext cx="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1080" y="4956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8480" y="4956840"/>
              <a:ext cx="9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033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16200000">
              <a:off x="68320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64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4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 rot="16200000">
              <a:off x="69742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70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070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4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16200000">
              <a:off x="69004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361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61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612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8320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864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864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69742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070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0070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04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597800" y="2902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2680" y="119916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7040" y="119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080" y="12697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440" y="137592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8160" y="248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8160" y="2367360"/>
              <a:ext cx="235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3880" y="227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88280" y="25534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800" y="34077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480" y="33368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" y="3227760"/>
              <a:ext cx="237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29800" y="41205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1840" y="450576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z. Me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252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988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5680" y="469584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-400M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6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840" y="532908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4840" y="5041440"/>
              <a:ext cx="24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648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32280" y="5311440"/>
              <a:ext cx="283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86720" y="531144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868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0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16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12840" y="547488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 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12840" y="55767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280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840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37880" y="5027760"/>
              <a:ext cx="283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52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4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75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29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124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508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1600" y="531144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75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046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430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423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97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7920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17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5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08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40080" y="50277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0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24680" y="547056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120" y="547056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6320" y="509904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4000" y="50990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6320" y="524052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24640" y="52405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7200" y="53114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5306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11640" y="494820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11640" y="50662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33320" y="4319640"/>
              <a:ext cx="5695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IL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26840" y="4956840"/>
              <a:ext cx="428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98120" y="52891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55560" y="5961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8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3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33320" y="340776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282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3120" y="3292560"/>
              <a:ext cx="569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oncasa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820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6940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59880" y="3292560"/>
              <a:ext cx="423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enz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782200" y="359388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28240" y="2964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5 kV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55840" y="1911600"/>
              <a:ext cx="34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39840" y="272196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9840" y="27838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97800" y="1911240"/>
              <a:ext cx="0" cy="8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00560" y="170064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043120" y="91980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5440" y="19249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15440" y="205308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5800" y="779760"/>
              <a:ext cx="7837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RA 3-AM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11400" y="66312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. I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6744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1052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17640" y="849240"/>
              <a:ext cx="42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78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7888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83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5120" y="636840"/>
              <a:ext cx="7124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ectroliza I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52560" y="22658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atia 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5520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520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0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00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848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848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992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2992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55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55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13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513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6744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85600" y="27482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6120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472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6040" y="27615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086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086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357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57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7848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7848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556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556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19640" y="29325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19640" y="267300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04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404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08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08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9300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2267640" y="371484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25466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8530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2853000" y="43531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3466440" y="4192920"/>
              <a:ext cx="31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34660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3240" y="3553920"/>
              <a:ext cx="405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3052800" y="4170960"/>
              <a:ext cx="454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3227040" y="4165560"/>
              <a:ext cx="450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772440" y="4276440"/>
              <a:ext cx="480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5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385632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49910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53658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073760" y="3995280"/>
              <a:ext cx="33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8160" y="3407760"/>
              <a:ext cx="3513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3600" y="35539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112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210000" y="3637800"/>
              <a:ext cx="522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”0”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371560" y="433260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6011280" y="432684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6524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621072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32880" y="3516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76360" y="357624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76360" y="3637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30000" y="36115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48800" y="367344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004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60" y="6147720"/>
              <a:ext cx="641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riza Ol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343960" y="2062080"/>
              <a:ext cx="117000" cy="116640"/>
              <a:chOff x="2343960" y="2062080"/>
              <a:chExt cx="117000" cy="116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343960" y="20620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373480" y="20908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100680" y="3996720"/>
              <a:ext cx="117000" cy="116280"/>
              <a:chOff x="3100680" y="3996720"/>
              <a:chExt cx="117000" cy="1162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10068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313020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706200" y="3996720"/>
              <a:ext cx="117000" cy="116280"/>
              <a:chOff x="3706200" y="3996720"/>
              <a:chExt cx="117000" cy="116280"/>
            </a:xfrm>
          </p:grpSpPr>
          <p:sp>
            <p:nvSpPr>
              <p:cNvPr id="1101" name=""/>
              <p:cNvSpPr/>
              <p:nvPr/>
            </p:nvSpPr>
            <p:spPr>
              <a:xfrm>
                <a:off x="370620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572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4565520" y="3996720"/>
              <a:ext cx="117360" cy="116280"/>
              <a:chOff x="4565520" y="3996720"/>
              <a:chExt cx="117360" cy="116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4565520" y="39967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4595040" y="40255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12040" y="3979080"/>
              <a:ext cx="117360" cy="116280"/>
              <a:chOff x="5612040" y="3979080"/>
              <a:chExt cx="117360" cy="116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1204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564156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6253200" y="3979080"/>
              <a:ext cx="117360" cy="116280"/>
              <a:chOff x="6253200" y="3979080"/>
              <a:chExt cx="117360" cy="116280"/>
            </a:xfrm>
          </p:grpSpPr>
          <p:sp>
            <p:nvSpPr>
              <p:cNvPr id="1110" name=""/>
              <p:cNvSpPr/>
              <p:nvPr/>
            </p:nvSpPr>
            <p:spPr>
              <a:xfrm>
                <a:off x="625320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628272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842560" y="1973520"/>
              <a:ext cx="117000" cy="116280"/>
              <a:chOff x="2842560" y="1973520"/>
              <a:chExt cx="117000" cy="116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4256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287208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100680" y="1973520"/>
              <a:ext cx="117000" cy="116280"/>
              <a:chOff x="3100680" y="1973520"/>
              <a:chExt cx="117000" cy="116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10068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313020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385800" y="1973520"/>
              <a:ext cx="117000" cy="116280"/>
              <a:chOff x="3385800" y="1973520"/>
              <a:chExt cx="117000" cy="1162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38580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341532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98240" y="1973520"/>
              <a:ext cx="117360" cy="116280"/>
              <a:chOff x="4098240" y="1973520"/>
              <a:chExt cx="117360" cy="11628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98240" y="19735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4127760" y="20023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4423320" y="1973520"/>
              <a:ext cx="117000" cy="116280"/>
              <a:chOff x="4423320" y="1973520"/>
              <a:chExt cx="117000" cy="116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2332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445284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5291640" y="2004480"/>
              <a:ext cx="117000" cy="116640"/>
              <a:chOff x="5291640" y="2004480"/>
              <a:chExt cx="117000" cy="116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529164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532116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598608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616360" y="2004480"/>
              <a:ext cx="117360" cy="116640"/>
              <a:chOff x="5616360" y="2004480"/>
              <a:chExt cx="117360" cy="116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561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64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6253200" y="2004480"/>
              <a:ext cx="117360" cy="116640"/>
              <a:chOff x="6253200" y="2004480"/>
              <a:chExt cx="117360" cy="11664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5320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628272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560280" y="2004480"/>
              <a:ext cx="117000" cy="116640"/>
              <a:chOff x="6560280" y="2004480"/>
              <a:chExt cx="117000" cy="116640"/>
            </a:xfrm>
          </p:grpSpPr>
          <p:sp>
            <p:nvSpPr>
              <p:cNvPr id="1138" name=""/>
              <p:cNvSpPr/>
              <p:nvPr/>
            </p:nvSpPr>
            <p:spPr>
              <a:xfrm>
                <a:off x="656028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58980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876360" y="2004480"/>
              <a:ext cx="117360" cy="116640"/>
              <a:chOff x="6876360" y="2004480"/>
              <a:chExt cx="117360" cy="116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687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690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127320" y="141120"/>
              <a:ext cx="2708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hema electrica monofila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288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061640" y="57535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061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1003680" y="5820120"/>
              <a:ext cx="117000" cy="116280"/>
              <a:chOff x="1003680" y="5820120"/>
              <a:chExt cx="117000" cy="11628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03680" y="58201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1033200" y="58489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758520" y="467388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695160" y="4744440"/>
              <a:ext cx="117000" cy="116640"/>
              <a:chOff x="695160" y="4744440"/>
              <a:chExt cx="117000" cy="116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695160" y="474444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4680" y="477324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V="1">
              <a:off x="833256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30088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1766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81450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76680" y="446148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8118720" y="4722480"/>
              <a:ext cx="117360" cy="116640"/>
              <a:chOff x="8118720" y="4722480"/>
              <a:chExt cx="117360" cy="116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8118720" y="4722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8148240" y="4751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833256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8274600" y="4939200"/>
              <a:ext cx="117360" cy="116640"/>
              <a:chOff x="8274600" y="4939200"/>
              <a:chExt cx="117360" cy="116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827460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30412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V="1">
              <a:off x="92854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92538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28548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9227520" y="4939200"/>
              <a:ext cx="117360" cy="116640"/>
              <a:chOff x="9227520" y="4939200"/>
              <a:chExt cx="117360" cy="116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922752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flipV="1">
                <a:off x="925704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904068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363400" y="6448320"/>
            <a:ext cx="29152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t">
            <a:spAutoFit/>
          </a:bodyPr>
          <a:p>
            <a:pPr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. nr. 2.4 Schema electri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ă monifilară a CET Gov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5:05:17Z</dcterms:created>
  <dc:creator>CET</dc:creator>
  <dc:description/>
  <dc:language>en-US</dc:language>
  <cp:lastModifiedBy>Carmen</cp:lastModifiedBy>
  <cp:lastPrinted>2000-08-11T05:07:41Z</cp:lastPrinted>
  <dcterms:modified xsi:type="dcterms:W3CDTF">2007-08-15T15:22:00Z</dcterms:modified>
  <cp:revision>4</cp:revision>
  <dc:subject/>
  <dc:title>No Slide Title</dc:title>
</cp:coreProperties>
</file>